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0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15F-F6A5-40F1-887A-95418D64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FF7-76C6-487B-9E5B-5C76A328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EE4-0ABB-4689-8A59-E750AFAB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973-CAC8-4E6F-9D47-A6A22FFA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5A1-84AF-4A37-8300-7D993549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06E-4B13-4636-A2D3-F1D3B41C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D16-D814-4AD9-BB05-75DCF31C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B37-AC2A-4F72-B840-D0774C06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99B-A89E-41AB-9BAC-FEEB37BF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AAB-B325-4741-9E27-D3B79649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3FE-A427-4578-9A4D-E789959F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6EE-4386-4451-B58A-243E5745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3F0C4-1705-4E32-86A4-889C1AF167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qXu-5jw60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Arms 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3320" y="1919160"/>
            <a:ext cx="8721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clear weapons became the biggest source of tension in the Cold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.S. used used two nuclear bombs on Japanese cities to end World War II in 19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SSR tested their first nuke in 194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the 1950’s, both sides had enough weapons to literally wipe out the oth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 = Mutually Assure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152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- How powerful were these bla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14800" cy="2975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743200" y="3962520"/>
            <a:ext cx="400068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067200"/>
            <a:ext cx="4495680" cy="3552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04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 – How did Japan respo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4114800" cy="32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30240"/>
            <a:ext cx="8686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Cold War hit its most tense moment during the Cuban Missi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sis in October of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viets placed missiles in Cuba (90 miles from Flori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fter 13 tense days of negotiation with U.S. President John F. Kennedy, Soviet President Kruschev agreed to remove th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siles from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it like to live under the threat of a nuclear atta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ck and Cover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IKqXu-5jw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229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Arms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3240" y="205740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.S. and the USSR signed the START treaty in 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d to both countries reducing the size of their nuclear arse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3792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89360" y="1828800"/>
            <a:ext cx="53546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7240" y="1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weapons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9995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010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 – What is an “atomic bomb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230480"/>
            <a:ext cx="5562720" cy="372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334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lit into tw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emendous amount of energy is released (the explo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5335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 – Then, what is a “hydrogen bomb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3520" y="1523880"/>
            <a:ext cx="415620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52880" y="183024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ydrogen bomb 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the combining of two unstable elements, releasing a tremendous amoun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 – What does the resulting explosion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9989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 – How many times have nuclear weapons been us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4495680" cy="3224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4419720"/>
            <a:ext cx="83818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I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6, 1945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rosh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9, 1945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gasa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 - How was the first atomic bomb buil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3417840" cy="432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. Robert Oppenhe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191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llCent BdList BT"/>
              </a:rPr>
              <a:t>Manhatta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29200" y="1401840"/>
            <a:ext cx="350532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 – What does an atomic bomb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065240"/>
            <a:ext cx="6705720" cy="4344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5683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t Man” and “Little Bo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49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- How were the atomic bombs drop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353960"/>
            <a:ext cx="6934320" cy="3446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047600"/>
            <a:ext cx="7543800" cy="535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- How much damage did these bomb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809880" cy="3012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320" y="3576600"/>
            <a:ext cx="4876560" cy="320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76920" y="6262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asa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066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osh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4:23:21Z</dcterms:created>
  <dc:creator>peronto's</dc:creator>
  <dc:description/>
  <dc:language>en-US</dc:language>
  <cp:lastModifiedBy>Emily Dolci</cp:lastModifiedBy>
  <dcterms:modified xsi:type="dcterms:W3CDTF">2008-05-13T13:08:09Z</dcterms:modified>
  <cp:revision>5</cp:revision>
  <dc:subject/>
  <dc:title>PowerPoint Presentation</dc:title>
</cp:coreProperties>
</file>